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264-8FCF-4549-BD4C-FDAC1178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28F5-7E5D-4FA4-911D-CC25D5DA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28E7-F90B-4FC1-9027-CCA8AC2B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9A0A-7BFB-4FCA-84E0-42D0D1C3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91FD-CCAE-4A89-8F5E-C76E18E9D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ED7-E5B4-4471-8A7A-735D83F7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34EF-C434-4114-B3D8-B3CEF89C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133-B0AC-429D-ABEC-5D451DAB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BB1-3734-40FC-93F0-E012F04A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E77-4533-41C4-A357-6955185A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43E90-2FFD-4D09-A705-C9381E50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48C1D-E0C3-4A73-A85C-D3A6A02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B7541-DDD4-4299-8F67-2A2CEDB5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9FA80-C6CF-45EB-A0BA-B270DEF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412B6-675F-4367-9B94-081B6299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95962-86E1-40EF-A873-79975A6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3A805-7669-4897-87F9-F34D4889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53A09-2B8C-458F-8FA2-E0A13007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8D8BC-7717-466B-9E6B-B0BC231C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24213-E23A-449A-8FCF-AA14E6DC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B79-D936-48B0-95C4-8401BD6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387EA-1D5E-440B-8306-FFD6416E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8E6C1-81D0-43C7-924E-D1CB8BA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94826-F2D6-4137-BE5F-97E5A82E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3A475-CCBF-4D75-B400-F09C61F9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1C714-1FA8-4B9F-8F37-D81CC8C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B984B-E540-4152-8B99-E197E8A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AF4E-0A72-40B9-B0ED-F8C5E41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983C6-AB57-42AF-A4FA-358BD0B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E248B-BE55-4BF9-BF07-695D234D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1ED63-AC16-487C-8422-2FB5DCAC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BF7-9591-41CA-A503-F51DCCB6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30D61-C4DE-4079-829F-E674D097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1F371-CA21-4AAB-AD7C-61617D5B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AF00D-D311-439B-8A46-CD91EE0E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7AD3B-6ADB-4196-B032-13FC98B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D3003-3DAE-42B9-AE16-0C8546FA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626F1-34F5-42FA-9AB7-08850B5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C645-34D8-4580-91B4-F81394FE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AE38E-A00D-4758-BC12-42435D5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F72AE-BF19-4B36-951E-3A3ABC5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1F7CF-7346-4461-8C11-97E8D8C0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8FD7-4002-428F-A0A1-909235A3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BDED7-2784-4370-AF29-0E91016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DD8E1-D55E-4A35-8CAB-7DAFA82A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33BE-4B02-478D-8C1D-6A8990A0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47295-058E-4895-A946-7964F0B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0AEDF-0805-4C59-BD71-DD2972C0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7BD97-D9AF-4C4C-9705-7F482B0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2110B-5E1A-446B-BAAA-ABE720D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8AA72-2ED3-46CD-AD1D-0ACB5E5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ADCA7-08D4-4A2C-BA82-B30F4954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3BE30-19A2-47B7-BDB3-E8C00F5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627C-51BB-45EF-ADCE-1A83F24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83AB6-D139-4C3E-8A44-DFE8A0BC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188FD-7A32-440A-B6B3-57B6DD4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9A760-A6F6-462C-8CE6-9282A764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0FAC-8D52-4A72-B796-06D897D6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9662-CF6D-4FF2-AA06-DED3336E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D0A51-B2F4-4DCD-9AEC-1139FD2F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00B7D-13EE-4075-9034-05190110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4D385-D152-439D-A7AB-BB56B40B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1F091-620A-4142-B356-C746A9AC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FBDF6-D19B-4038-9867-A9CFAA87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1B81-8249-41EF-AD01-AFF33162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1E27-A775-40E0-BA06-74EFD24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5AD02-0D60-4670-9620-CD564390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27933-88D2-4587-9518-73BE056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A926-E5E8-46F2-8E5B-C85E3BC3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1E836-6D65-48E6-87BA-BED2526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6324C-2204-4140-8332-3C777EE1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BC633-9C24-4689-9F91-9FF520B6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66F69-7AFF-4031-8E9E-E9776EF7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29197-7DEF-43B6-AC50-83F2EED0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72B35-E27F-49AF-806B-38CB12F0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4B33-1164-4ED1-ABED-0494A2A2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ACE8A-63F4-402A-B6FD-A8C28FD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9FBC5-A0B9-47A5-A31C-1C252D1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696CD-D27B-4B13-B4FF-B0F0DAB9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C7E24-06F2-47B6-B2DB-8BC1D44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3BA223-2A69-4025-8B51-334FEECF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48E4A-2FC6-4900-8C27-AAC3BE27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D57F5-82C5-470E-940F-6B72A665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4BFB1-0336-4E86-B037-CB43A23D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D70BD-20CF-4EF6-843F-267F97B8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0D9F5-68EC-4682-8F6F-B7EA8F34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FED5-87E3-41EB-8E9B-7912B62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67981-ECAD-49C0-8D35-1872B0B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5AAF3-A2A7-4C2B-97FB-EB78AE19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CAD2B-E060-4125-B20B-D71452F3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784D51-B8AB-438F-BA83-854E8A0E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854EC-6F34-41D7-89D0-0DF88524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902114-4BAB-438A-A2A7-F14C652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E74CA-4117-4748-8C16-D906BF6B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FC0C4-FA33-45B5-8D44-7B7EF21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511B2-EF0B-4315-8028-F2F868F5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9490F-9C93-4539-911B-5554D7D5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465B-D185-40CF-8799-BCD087FA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F8C113-1266-4146-8E03-B04ED138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EB296-2316-4304-A4C9-44A05F0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C7FE1-0240-441C-9A37-65BE1A36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92774-C466-4832-8446-5C32C85F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44D7C-1693-48BC-AAC1-3C9FA93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371D82-449F-40FE-857A-92C3A82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CC33C-8184-447F-AEA0-B9E983BB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91C33-B4B1-4886-86AD-23A2DFCD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69323-8952-46F2-A55E-F318EF60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C4F00-835F-409A-AACB-DD2F2E8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C878-6A94-4EC4-BC68-CBE4550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AAD4A-A00F-4BC3-9FC1-43042CBD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2FC73-FA14-4728-BD24-59D6EEC6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046D3-A7BE-4FB7-A7F8-A214F313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926A0-A90A-4E46-8DC6-CA1DA03A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BEFF4-99B2-43B7-9FD2-B9D9B66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18E27-991D-4159-8D70-89B41679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76E60A-E963-4E76-AAF2-66F619D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35F983-B1F9-4F18-8DE6-07251ED3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D327E1-445E-41D3-8023-90780A46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836B9-2886-4E06-9627-FCC911F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D4C-3868-449F-B487-D6F8A65A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DE0A-EB41-4304-9661-E49A0144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74E36-89AB-4E1E-86F9-11FB372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E566F-6406-4963-B19E-0A20138E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A83BC1-A390-4EAA-8C6C-7456CA81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A7D9E-E11C-4B70-B572-213E7D99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E1758-5525-45FE-833A-CFF3E380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11422-9CB8-4FA9-9F62-007A0A99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44CF1-B10B-4E34-A3C1-A9B8A0B5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327A6-9580-4E43-8961-CDDC506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50339-6469-4264-9739-F7DB7A8B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2FD72-4F34-4080-A153-10A6168F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EDF3-E44A-4C46-AC62-A84BF33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391D5-44BA-49CC-911C-702F25B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1D100-00AC-4350-A097-EAA0ED8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AE27B-3EA4-422C-95F4-18420BA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1E984-E311-4568-AAC3-65EE354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524C4-DF2D-4070-AE5D-02735A66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EF03F-969F-47D3-8140-566C5701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EFF4E-9090-44C8-BE23-2861FD32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C87BE-A12D-47F6-8A92-741148E4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36FA32-3CB1-4258-A86A-052ED52A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671B35-4B2F-4954-AA6C-244AA5F5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1BCE-7623-4F89-B2EC-4AF6F198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F45EB-7141-49A2-AE94-50A89244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C55A3-15F6-4674-A3AF-5E44FC01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BD5391-6633-4AE8-A098-99A8574F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B1D61-9408-42B9-87C6-5BA359D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484173-F40C-4FDB-940F-9A9831B4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A05E7D-FC9E-44AF-9642-6A89306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33ABA-700B-45DF-8B15-8D778D99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3A3462-9062-4814-8C8C-683F9FF4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5D759-51E2-4210-8449-4E44B0AB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13C00-7409-46BF-A2FE-FDC326FC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C6A-B0C0-4BC9-97DD-A1EF5099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81B3EF-5D07-44E4-A094-19F0B7DD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507D8-1D2F-4CE9-B3DC-7167DF41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6D3EE-97AF-4DA4-9105-4F9A403E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D45C53-9C63-4B09-BA45-3D64F89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5663A-5AB1-47A0-8B36-DEBDEEA8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BE211B-2B1B-463D-B8ED-9CFC2347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4EC06E-7091-439C-8F8D-8C49017E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F4062-A082-471B-AA19-42D049DA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E60C8-A397-4EE7-9CB7-147515CC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E731B-EBC8-4987-9516-37A89FC4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331A-4720-48F7-AC9C-99B7918F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9335A-FE19-42B3-92A9-EFB32B13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58A65-E182-4B86-951E-2849D02D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68FD0-F99F-41F5-8C07-6FEC725C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170D3-7A77-4213-A336-2FC5B01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15E58-BCDE-4441-AC11-5B7D8DB8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D5597-A527-4F20-8644-3AC56F6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24D33-F6B4-411A-9E6C-AF3D0AE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7F1171-CB15-435B-B920-2C8A518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0760C-772C-4F82-802F-2B0B884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9EF28-A38C-43F7-9087-A2286EE6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BFCF-4721-467B-8AB9-ADC18335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2F989-E7BC-44C9-A4FB-BB235605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B77F3-9283-4CAD-B232-D041D92D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3219A-3D0F-4691-B830-F1EB57DD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711AF9-637B-4E7E-AEC7-048D0A8B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E2D1D-ECA7-40E6-ACC6-FAF32D01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29B7B7-3E87-4718-AA9C-AC4C530B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739180-C7EE-46EA-9ECF-7860C47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FC0CB-C81D-4A0F-A472-3BE4C82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34CF8C-4AAE-46B6-A524-1E36557B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CB0B5-3FBC-4086-A877-639AD4B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95F1-3E67-4402-8570-07ED145F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13CF4-FC53-44C7-B8EE-9E0CCC4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187171-49BA-421C-A3E9-7DEB62D0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8233A-9F10-4A57-BBC4-1D418EC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A9AC7-850B-449B-BE33-06509CF8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4CEE5E-DF39-48A7-9195-971BC80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583F7F-9EAD-42A3-A44F-C078D11E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CB231C-FBC0-48F8-BDFB-1B9EA489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70A049-A0CC-4D73-ABCB-D87867C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D840AE-5FF0-43F1-9590-437A1048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5036AF-6197-4D4F-8627-3C7E2CE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6FD97-9EBF-4A27-9D24-463826B8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720BD6-086F-4FFD-858E-5E73092B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A897AD-8149-4DD3-B47C-4469909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28E82D-60BB-4173-8C2E-876655AE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9CE37-63AF-4272-9C35-6A45565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CFB505-7D04-4907-9669-0566BB32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4A0B78-3FFE-49EB-8A8C-67AD09BF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84705-DF0D-4FC7-B7C2-1D822D4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1B9029-82CA-4287-B2AE-8553353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7A83D0-D4AA-4DC2-ACFD-DFD95B3F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E0F9B-5720-4638-978C-2D01DB1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3B53B-BE3C-4FEB-858A-F04CAAD5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AEFA48-B812-4EF0-834F-0AFADD66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3FBCC7-E814-4686-AFC6-5B179BF2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DFA026-BF3B-4E81-9BC0-44B4514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AD89E5-80F9-4B97-887D-E4C8E69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4A119D-10B2-4E84-9009-0DDD428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8D930A-6D51-4589-9BE4-D7609EE5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113B55-64F3-481C-B643-24D3F7CD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5B7EF-060C-4BFB-A61D-B8E4036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00CEC9-5AAC-4B69-B9A4-77FE1EF4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78FAC5-EA48-4E3F-8316-F68240B5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95B2D-0995-44EC-8107-796F61AC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211AF1-DBD3-48FE-A928-89D0962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79950D-B29A-44D9-975B-4B275EB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BD5539-3F41-40DE-95C7-6DD722B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2759E-B904-4D0D-B6A3-09AAAC8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1CDF21-D7E3-4F5B-98B5-B151F0CA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B216BC-2D06-4286-BC02-6C378BA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9AD6FC-F7B1-46FA-BE61-07037071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7C682C-8EF8-44ED-891D-97338B6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D8FE9E-F792-406D-B750-6E90E0C2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ECC5A4-F320-4255-AB82-EAEF2ABC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1FD-CE58-4D27-AA2F-AD6FBD0F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1AA9-F281-4AE5-B6C8-1EBCFC0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F31C8C-2381-4915-8076-0F2FE555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1D0724-F54E-40C9-A249-3AB9113E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8592D8-FC75-4314-8BBE-9C2500EC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B439D7-38AC-40BA-8ECD-59165A8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463C9C-861D-4A8E-AD72-167EFFE9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2D4A7D-E5BF-497F-B9F9-3DE1499F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93EE8E-71A6-47BF-9C11-1CD4BE56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0224D6-E633-4545-97A4-768C8316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1E71EC-D29A-4C1C-9EEB-7F167886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0D3D77-D39C-4321-8C24-0F70018D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22BC-00B9-4C05-9A76-50649627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690AEB-E6C6-456A-9D51-13FEAD3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E5CBD2-8229-4781-B211-649069DB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B7861-3F94-49FF-8F21-5A61240F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DA165-6479-4C7C-A389-82A0AD57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9C1666-6AF6-4F81-9A06-2AD7F470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C6E273-9E28-4843-BBDB-02C68B96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47CE12-515E-407B-ACAE-A3883B74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73121A-D10A-4C19-99C5-533C628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C844F7-8F27-4221-A2BF-56CDC4C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AFFD7C-1F38-4A5F-9FDB-374DAEB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519F5-9673-4AF3-88DF-FBDB2B34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26E6A0-0974-4FAE-87D0-16489EE3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E2EC1C-7080-4259-B965-4F8BA54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B37270-6C8B-4B15-9C59-26722BA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715BBF-257C-473E-88BD-D3252207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607AF1-D699-4DBE-9AB2-6C54FAF3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E26E-A2D3-4E7D-96EB-390EB07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8F499-F7E4-4DBE-B170-C22F4194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27758-C467-454E-A3F6-0623F48B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3457-83F3-48FB-947F-097167AB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4BF0-7F4E-4C2A-BE2D-ABEB9CCA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C552-C5DA-4AAB-A5AF-58550058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C03B-1D00-479E-BEBA-83BFF8A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D4A-7524-4C9F-8C6B-174402BB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8C39-5D19-453C-8FFE-90962753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1EA3F-3BBA-450E-B6FA-D4932B5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A5CBB-9BC9-4169-91AD-4CF20658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C5174-6223-4078-9A2C-96BFFD8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35D4E-7F6A-4E48-8760-30A5DE29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2882-1FAF-473F-BFF3-9D3BE4A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0B051-2F3B-4BED-B1FF-D3EE7716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B83C-EB29-4E44-8754-DEE88DE5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B7F1-0B86-403E-A0D6-A6A31DF6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C6A94-9CB8-4818-A8F4-3C34667F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F8E-0847-4B5C-AC67-2A10888A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103DA-3869-4EAC-805D-650F2DCE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BDCA4-77F1-4FBA-B0D3-251662F3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5A14-DDAB-411F-A51C-9AC9AE1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CE051-D974-412F-86F9-EF7A339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9396E-B54D-43A0-A56D-6B92B0F5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CF2C-61F9-4B26-8E03-FE675B7C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396C4-CEB5-47A8-93A6-15413A51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5BC75-E8ED-4DB1-9522-24047172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3E0E-D57B-4FCC-AAE5-723A506E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D5B3-B8C8-48F9-967F-3A226792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131-8501-439C-BE69-FB28072D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CA2C-1369-44EC-8E8B-47C9A144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4841B-237C-422A-914F-08457D50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7ACA-4909-4171-A6F4-C0ADD74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CD3D-4519-49D1-91A7-A1409911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0151-DB98-4B2A-8193-CB8E720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ACBD5-7FC5-438B-8D21-2C91C9D8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3608F-ED73-4A65-94F4-1B73951C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A7BF7-50C4-4116-A217-2681632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3E3E-5065-4566-8516-BB89C500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9178-7A64-489D-A99E-3EED224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9A2-0A65-4C3D-A5DF-236A676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6F795-7E72-4E2B-8C00-B048A627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9FED-2575-4CE2-BC9F-BC83F3BB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020D-F423-4646-BA52-6ADB1C77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0B76-93E9-4F20-B88A-8638C1CB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BB3D-C949-4571-B097-92DEE9FC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2777-1930-4269-AF26-BAC1CB8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4434-247E-4FF2-8AEC-9537C9EB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167C-8419-4AF0-B9FC-184AFEFD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97606-983E-4442-AE5E-69757DD6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9292-5ABE-4CA4-A2DE-5923FC87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10B-685E-4151-9E5F-66B6046C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AF0E-DD63-476C-B848-98A989C8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F889-97F8-40F7-9677-98E53032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21C7-2C5D-405C-9D4D-DD390E15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6D195-7808-42FE-80D7-764780E0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425F1-0C32-436D-829B-B2F52AF1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59B20-E97E-497A-828D-4500E205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A5CFF-553C-4DDE-95CE-75F81211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64156-4F73-4541-A539-F164297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5613F-9860-4C01-948D-A972CF6E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70CF3-6993-4E71-A6D2-38702259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A40-67F4-4F4E-9203-0DEA3EB5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7DE1-F00A-45EB-A7A2-536EAFC2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E971-07E9-4441-8FFE-98C41AE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DEEFE-7E27-414E-A81E-CA7B6C4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9D7B-D537-4155-9564-21493D2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47E26-68F0-4972-BB7F-6861DA58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79D77-FCC2-4A61-A688-5C1D4DB1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ED9C3-5E0C-4246-A5A7-306464DA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E5337-6A96-465D-A264-56F5C7B8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BC43-9950-4F25-8D85-71B34D1B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5ACBE-5275-46BD-AE70-63C9130E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ABF1-8709-40E4-B515-ED9E66772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BB82-3BC7-4741-98EA-ECEFD2AD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D7CB-694A-4156-83EF-E82F8971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A71F-461B-44E3-A63C-3D06FE2E6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8EE0-81FA-412D-88AE-5EB918D71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96DF-761D-4BA2-9FFE-07281A176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440-A1CB-4A46-9CD7-4C3C3F115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0104-ECB8-47DA-9356-FB1D01E3F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C8F-00D6-4313-B274-E651A7E8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620A-7D83-4AE0-B8C4-CFD61003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A5E1-068A-4622-A0FC-578EE18E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206-38B1-46E9-ACA2-D8B7B995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87E2-8677-41F5-84BF-1C299BD3C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B1A-F511-4F1A-BF16-38E719F3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212E-5398-4482-B95B-667E9FB8F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2B0-5911-46F3-8551-02C1A8B8B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591B-4B93-4BB1-838D-98450D98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0557-5422-4E04-AF14-AE9DD142E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406-5274-4945-AE1D-66DD36D0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791-95CE-4E2D-9834-868E2F475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6D9F-0481-4E44-8C58-86D83F86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6595-B87E-4349-8427-97E67CE65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2B85-BC34-40B9-8F2B-5C5A66CF7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22E-6476-4BA9-AC97-2D2B032F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F581-7192-4F64-95CC-6F98F76FB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FCF2-A36D-4AB8-BAC8-B10EB1F37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FF5A-D5AB-45B2-B771-6044F9076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1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2.1: Linear Functions and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exact and approximat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graph of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table of values for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a line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xact and Approximate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ct models correspond with the data exa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models can be used to estimate the general tr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Object 4"/>
          <p:cNvGraphicFramePr/>
          <p:nvPr/>
        </p:nvGraphicFramePr>
        <p:xfrm>
          <a:off x="1600200" y="4114800"/>
          <a:ext cx="22003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11480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Object 5"/>
          <p:cNvGraphicFramePr/>
          <p:nvPr/>
        </p:nvGraphicFramePr>
        <p:xfrm>
          <a:off x="5334120" y="3581280"/>
          <a:ext cx="2200320" cy="22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581280"/>
                    <a:ext cx="22003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Representations of linea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f(x)=ax+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the 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constant rate of change)x+ (initial am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6" name="Object 4"/>
          <p:cNvGraphicFramePr/>
          <p:nvPr/>
        </p:nvGraphicFramePr>
        <p:xfrm>
          <a:off x="5791320" y="2590920"/>
          <a:ext cx="29430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5909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SMARTPenAnnotation139"/>
          <p:cNvSpPr/>
          <p:nvPr/>
        </p:nvSpPr>
        <p:spPr>
          <a:xfrm>
            <a:off x="3600360" y="1235160"/>
            <a:ext cx="2509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140"/>
          <p:cNvSpPr/>
          <p:nvPr/>
        </p:nvSpPr>
        <p:spPr>
          <a:xfrm>
            <a:off x="3921120" y="1279440"/>
            <a:ext cx="2970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141"/>
          <p:cNvSpPr/>
          <p:nvPr/>
        </p:nvSpPr>
        <p:spPr>
          <a:xfrm>
            <a:off x="3954600" y="1393920"/>
            <a:ext cx="3096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142"/>
          <p:cNvSpPr/>
          <p:nvPr/>
        </p:nvSpPr>
        <p:spPr>
          <a:xfrm>
            <a:off x="4354560" y="1201680"/>
            <a:ext cx="46836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MARTPenAnnotation143"/>
          <p:cNvSpPr/>
          <p:nvPr/>
        </p:nvSpPr>
        <p:spPr>
          <a:xfrm>
            <a:off x="4869000" y="1246320"/>
            <a:ext cx="29664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MARTPenAnnotation144"/>
          <p:cNvSpPr/>
          <p:nvPr/>
        </p:nvSpPr>
        <p:spPr>
          <a:xfrm>
            <a:off x="4869000" y="1268280"/>
            <a:ext cx="1951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MARTPenAnnotation145"/>
          <p:cNvSpPr/>
          <p:nvPr/>
        </p:nvSpPr>
        <p:spPr>
          <a:xfrm>
            <a:off x="5132520" y="1382760"/>
            <a:ext cx="33156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MARTPenAnnotation146"/>
          <p:cNvSpPr/>
          <p:nvPr/>
        </p:nvSpPr>
        <p:spPr>
          <a:xfrm>
            <a:off x="5235480" y="1257480"/>
            <a:ext cx="13680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MARTPenAnnotation147"/>
          <p:cNvSpPr/>
          <p:nvPr/>
        </p:nvSpPr>
        <p:spPr>
          <a:xfrm>
            <a:off x="5440320" y="1211400"/>
            <a:ext cx="31752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MARTPenAnnotation148"/>
          <p:cNvSpPr/>
          <p:nvPr/>
        </p:nvSpPr>
        <p:spPr>
          <a:xfrm>
            <a:off x="6229440" y="3246480"/>
            <a:ext cx="903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MARTPenAnnotation149"/>
          <p:cNvSpPr/>
          <p:nvPr/>
        </p:nvSpPr>
        <p:spPr>
          <a:xfrm>
            <a:off x="5726160" y="4251240"/>
            <a:ext cx="171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MARTPenAnnotation150"/>
          <p:cNvSpPr/>
          <p:nvPr/>
        </p:nvSpPr>
        <p:spPr>
          <a:xfrm>
            <a:off x="5943600" y="4016520"/>
            <a:ext cx="182520" cy="31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MARTPenAnnotation151"/>
          <p:cNvSpPr/>
          <p:nvPr/>
        </p:nvSpPr>
        <p:spPr>
          <a:xfrm>
            <a:off x="6640560" y="5064120"/>
            <a:ext cx="2602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MARTPenAnnotation152"/>
          <p:cNvSpPr/>
          <p:nvPr/>
        </p:nvSpPr>
        <p:spPr>
          <a:xfrm>
            <a:off x="7257960" y="3565440"/>
            <a:ext cx="13644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MARTPenAnnotation153"/>
          <p:cNvSpPr/>
          <p:nvPr/>
        </p:nvSpPr>
        <p:spPr>
          <a:xfrm>
            <a:off x="7464600" y="345132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MARTPenAnnotation154"/>
          <p:cNvSpPr/>
          <p:nvPr/>
        </p:nvSpPr>
        <p:spPr>
          <a:xfrm>
            <a:off x="7601040" y="3611520"/>
            <a:ext cx="1252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MARTPenAnnotation155"/>
          <p:cNvSpPr/>
          <p:nvPr/>
        </p:nvSpPr>
        <p:spPr>
          <a:xfrm>
            <a:off x="7772400" y="3578400"/>
            <a:ext cx="6840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MARTPenAnnotation156"/>
          <p:cNvSpPr/>
          <p:nvPr/>
        </p:nvSpPr>
        <p:spPr>
          <a:xfrm>
            <a:off x="7761240" y="3521160"/>
            <a:ext cx="204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MARTPenAnnotation157"/>
          <p:cNvSpPr/>
          <p:nvPr/>
        </p:nvSpPr>
        <p:spPr>
          <a:xfrm>
            <a:off x="8001000" y="3475080"/>
            <a:ext cx="17136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MARTPenAnnotation158"/>
          <p:cNvSpPr/>
          <p:nvPr/>
        </p:nvSpPr>
        <p:spPr>
          <a:xfrm>
            <a:off x="8194680" y="3452760"/>
            <a:ext cx="149400" cy="4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MARTPenAnnotation159"/>
          <p:cNvSpPr/>
          <p:nvPr/>
        </p:nvSpPr>
        <p:spPr>
          <a:xfrm>
            <a:off x="8207280" y="3532320"/>
            <a:ext cx="1476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MARTPenAnnotation160"/>
          <p:cNvSpPr/>
          <p:nvPr/>
        </p:nvSpPr>
        <p:spPr>
          <a:xfrm>
            <a:off x="8435880" y="3235320"/>
            <a:ext cx="136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MARTPenAnnotation161"/>
          <p:cNvSpPr/>
          <p:nvPr/>
        </p:nvSpPr>
        <p:spPr>
          <a:xfrm>
            <a:off x="8550360" y="3060720"/>
            <a:ext cx="199800" cy="322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MARTPenAnnotation162"/>
          <p:cNvSpPr/>
          <p:nvPr/>
        </p:nvSpPr>
        <p:spPr>
          <a:xfrm>
            <a:off x="8645400" y="3178080"/>
            <a:ext cx="27000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MARTPenAnnotation163"/>
          <p:cNvSpPr/>
          <p:nvPr/>
        </p:nvSpPr>
        <p:spPr>
          <a:xfrm>
            <a:off x="8550360" y="3451320"/>
            <a:ext cx="4222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MARTPenAnnotation164"/>
          <p:cNvSpPr/>
          <p:nvPr/>
        </p:nvSpPr>
        <p:spPr>
          <a:xfrm>
            <a:off x="8583480" y="3532320"/>
            <a:ext cx="22860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MARTPenAnnotation165"/>
          <p:cNvSpPr/>
          <p:nvPr/>
        </p:nvSpPr>
        <p:spPr>
          <a:xfrm>
            <a:off x="3635280" y="4332240"/>
            <a:ext cx="26208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MARTPenAnnotation166"/>
          <p:cNvSpPr/>
          <p:nvPr/>
        </p:nvSpPr>
        <p:spPr>
          <a:xfrm>
            <a:off x="3440160" y="4583160"/>
            <a:ext cx="3668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MARTPenAnnotation167"/>
          <p:cNvSpPr/>
          <p:nvPr/>
        </p:nvSpPr>
        <p:spPr>
          <a:xfrm>
            <a:off x="3830760" y="4365720"/>
            <a:ext cx="28404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MARTPenAnnotation168"/>
          <p:cNvSpPr/>
          <p:nvPr/>
        </p:nvSpPr>
        <p:spPr>
          <a:xfrm>
            <a:off x="4092480" y="4537080"/>
            <a:ext cx="27324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MARTPenAnnotation169"/>
          <p:cNvSpPr/>
          <p:nvPr/>
        </p:nvSpPr>
        <p:spPr>
          <a:xfrm>
            <a:off x="4057560" y="4525920"/>
            <a:ext cx="250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MARTPenAnnotation170"/>
          <p:cNvSpPr/>
          <p:nvPr/>
        </p:nvSpPr>
        <p:spPr>
          <a:xfrm>
            <a:off x="4332240" y="4354560"/>
            <a:ext cx="12060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MARTPenAnnotation171"/>
          <p:cNvSpPr/>
          <p:nvPr/>
        </p:nvSpPr>
        <p:spPr>
          <a:xfrm>
            <a:off x="4572000" y="4503600"/>
            <a:ext cx="22860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MARTPenAnnotation172"/>
          <p:cNvSpPr/>
          <p:nvPr/>
        </p:nvSpPr>
        <p:spPr>
          <a:xfrm>
            <a:off x="4594320" y="4618080"/>
            <a:ext cx="22860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MARTPenAnnotation173"/>
          <p:cNvSpPr/>
          <p:nvPr/>
        </p:nvSpPr>
        <p:spPr>
          <a:xfrm>
            <a:off x="3578400" y="5143680"/>
            <a:ext cx="2286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MARTPenAnnotation174"/>
          <p:cNvSpPr/>
          <p:nvPr/>
        </p:nvSpPr>
        <p:spPr>
          <a:xfrm>
            <a:off x="3875040" y="4983120"/>
            <a:ext cx="20340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MARTPenAnnotation175"/>
          <p:cNvSpPr/>
          <p:nvPr/>
        </p:nvSpPr>
        <p:spPr>
          <a:xfrm>
            <a:off x="3679920" y="5394240"/>
            <a:ext cx="57132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MARTPenAnnotation176"/>
          <p:cNvSpPr/>
          <p:nvPr/>
        </p:nvSpPr>
        <p:spPr>
          <a:xfrm>
            <a:off x="3807000" y="5475240"/>
            <a:ext cx="2952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MARTPenAnnotation177"/>
          <p:cNvSpPr/>
          <p:nvPr/>
        </p:nvSpPr>
        <p:spPr>
          <a:xfrm>
            <a:off x="4365720" y="5246640"/>
            <a:ext cx="32076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MARTPenAnnotation178"/>
          <p:cNvSpPr/>
          <p:nvPr/>
        </p:nvSpPr>
        <p:spPr>
          <a:xfrm>
            <a:off x="4321080" y="5349960"/>
            <a:ext cx="31932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MARTPenAnnotation179"/>
          <p:cNvSpPr/>
          <p:nvPr/>
        </p:nvSpPr>
        <p:spPr>
          <a:xfrm>
            <a:off x="4743360" y="5349960"/>
            <a:ext cx="2509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MARTPenAnnotation180"/>
          <p:cNvSpPr/>
          <p:nvPr/>
        </p:nvSpPr>
        <p:spPr>
          <a:xfrm>
            <a:off x="4869000" y="5222880"/>
            <a:ext cx="568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MARTPenAnnotation181"/>
          <p:cNvSpPr/>
          <p:nvPr/>
        </p:nvSpPr>
        <p:spPr>
          <a:xfrm>
            <a:off x="4697280" y="5326200"/>
            <a:ext cx="3542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MARTPenAnnotation182"/>
          <p:cNvSpPr/>
          <p:nvPr/>
        </p:nvSpPr>
        <p:spPr>
          <a:xfrm>
            <a:off x="5154480" y="5018040"/>
            <a:ext cx="354240" cy="57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MARTPenAnnotation183"/>
          <p:cNvSpPr/>
          <p:nvPr/>
        </p:nvSpPr>
        <p:spPr>
          <a:xfrm>
            <a:off x="5257800" y="5292720"/>
            <a:ext cx="2635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slope and y-intercep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graph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10x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5" name="Object 4"/>
          <p:cNvGraphicFramePr/>
          <p:nvPr/>
        </p:nvGraphicFramePr>
        <p:xfrm>
          <a:off x="3962520" y="1676520"/>
          <a:ext cx="29430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76520"/>
                    <a:ext cx="29430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7" name="SMARTPenAnnotation118"/>
          <p:cNvSpPr/>
          <p:nvPr/>
        </p:nvSpPr>
        <p:spPr>
          <a:xfrm>
            <a:off x="4938840" y="5349960"/>
            <a:ext cx="2505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MARTPenAnnotation119"/>
          <p:cNvSpPr/>
          <p:nvPr/>
        </p:nvSpPr>
        <p:spPr>
          <a:xfrm>
            <a:off x="5270400" y="5200560"/>
            <a:ext cx="3348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MARTPenAnnotation120"/>
          <p:cNvSpPr/>
          <p:nvPr/>
        </p:nvSpPr>
        <p:spPr>
          <a:xfrm>
            <a:off x="5337000" y="5327640"/>
            <a:ext cx="149400" cy="29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MARTPenAnnotation121"/>
          <p:cNvSpPr/>
          <p:nvPr/>
        </p:nvSpPr>
        <p:spPr>
          <a:xfrm>
            <a:off x="5578560" y="5303880"/>
            <a:ext cx="572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MARTPenAnnotation122"/>
          <p:cNvSpPr/>
          <p:nvPr/>
        </p:nvSpPr>
        <p:spPr>
          <a:xfrm>
            <a:off x="5543640" y="5292720"/>
            <a:ext cx="228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MARTPenAnnotation123"/>
          <p:cNvSpPr/>
          <p:nvPr/>
        </p:nvSpPr>
        <p:spPr>
          <a:xfrm>
            <a:off x="5761080" y="5251320"/>
            <a:ext cx="239760" cy="29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MARTPenAnnotation124"/>
          <p:cNvSpPr/>
          <p:nvPr/>
        </p:nvSpPr>
        <p:spPr>
          <a:xfrm>
            <a:off x="6126120" y="5222880"/>
            <a:ext cx="2397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MARTPenAnnotation125"/>
          <p:cNvSpPr/>
          <p:nvPr/>
        </p:nvSpPr>
        <p:spPr>
          <a:xfrm>
            <a:off x="6240600" y="5268960"/>
            <a:ext cx="2635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MARTPenAnnotation126"/>
          <p:cNvSpPr/>
          <p:nvPr/>
        </p:nvSpPr>
        <p:spPr>
          <a:xfrm>
            <a:off x="6640560" y="5097600"/>
            <a:ext cx="1116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MARTPenAnnotation127"/>
          <p:cNvSpPr/>
          <p:nvPr/>
        </p:nvSpPr>
        <p:spPr>
          <a:xfrm>
            <a:off x="6780240" y="5121360"/>
            <a:ext cx="23328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MARTPenAnnotation128"/>
          <p:cNvSpPr/>
          <p:nvPr/>
        </p:nvSpPr>
        <p:spPr>
          <a:xfrm>
            <a:off x="7257960" y="5132520"/>
            <a:ext cx="285840" cy="69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MARTPenAnnotation129"/>
          <p:cNvSpPr/>
          <p:nvPr/>
        </p:nvSpPr>
        <p:spPr>
          <a:xfrm>
            <a:off x="7612200" y="5211720"/>
            <a:ext cx="46080" cy="22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MARTPenAnnotation130"/>
          <p:cNvSpPr/>
          <p:nvPr/>
        </p:nvSpPr>
        <p:spPr>
          <a:xfrm>
            <a:off x="7554960" y="5097600"/>
            <a:ext cx="349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MARTPenAnnotation131"/>
          <p:cNvSpPr/>
          <p:nvPr/>
        </p:nvSpPr>
        <p:spPr>
          <a:xfrm>
            <a:off x="7669080" y="5165640"/>
            <a:ext cx="149400" cy="24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MARTPenAnnotation132"/>
          <p:cNvSpPr/>
          <p:nvPr/>
        </p:nvSpPr>
        <p:spPr>
          <a:xfrm>
            <a:off x="7886880" y="5006880"/>
            <a:ext cx="45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MARTPenAnnotation133"/>
          <p:cNvSpPr/>
          <p:nvPr/>
        </p:nvSpPr>
        <p:spPr>
          <a:xfrm>
            <a:off x="7807320" y="5133960"/>
            <a:ext cx="308160" cy="10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MARTPenAnnotation134"/>
          <p:cNvSpPr/>
          <p:nvPr/>
        </p:nvSpPr>
        <p:spPr>
          <a:xfrm>
            <a:off x="8093160" y="5248440"/>
            <a:ext cx="15876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MARTPenAnnotation135"/>
          <p:cNvSpPr/>
          <p:nvPr/>
        </p:nvSpPr>
        <p:spPr>
          <a:xfrm>
            <a:off x="8055000" y="5349960"/>
            <a:ext cx="1522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MARTPenAnnotation136"/>
          <p:cNvSpPr/>
          <p:nvPr/>
        </p:nvSpPr>
        <p:spPr>
          <a:xfrm>
            <a:off x="8218440" y="536112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MARTPenAnnotation137"/>
          <p:cNvSpPr/>
          <p:nvPr/>
        </p:nvSpPr>
        <p:spPr>
          <a:xfrm>
            <a:off x="8389800" y="5246640"/>
            <a:ext cx="147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MARTPenAnnotation138"/>
          <p:cNvSpPr/>
          <p:nvPr/>
        </p:nvSpPr>
        <p:spPr>
          <a:xfrm>
            <a:off x="8583480" y="4994280"/>
            <a:ext cx="414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a linear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tart ten miles from home, and then drive 50 mph hour.  Write a function that shows this sit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that passes through (2, 4) and (3, 1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function for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4"/>
          <p:cNvGraphicFramePr/>
          <p:nvPr/>
        </p:nvGraphicFramePr>
        <p:xfrm>
          <a:off x="5243400" y="2286000"/>
          <a:ext cx="36385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3400" y="2286000"/>
                    <a:ext cx="3638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SMARTPenAnnotation78"/>
          <p:cNvSpPr/>
          <p:nvPr/>
        </p:nvSpPr>
        <p:spPr>
          <a:xfrm>
            <a:off x="5726160" y="4595760"/>
            <a:ext cx="158760" cy="135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MARTPenAnnotation79"/>
          <p:cNvSpPr/>
          <p:nvPr/>
        </p:nvSpPr>
        <p:spPr>
          <a:xfrm>
            <a:off x="5978520" y="4643280"/>
            <a:ext cx="250920" cy="47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MARTPenAnnotation80"/>
          <p:cNvSpPr/>
          <p:nvPr/>
        </p:nvSpPr>
        <p:spPr>
          <a:xfrm>
            <a:off x="6275520" y="4640400"/>
            <a:ext cx="4608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MARTPenAnnotation81"/>
          <p:cNvSpPr/>
          <p:nvPr/>
        </p:nvSpPr>
        <p:spPr>
          <a:xfrm>
            <a:off x="6229440" y="457200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MARTPenAnnotation82"/>
          <p:cNvSpPr/>
          <p:nvPr/>
        </p:nvSpPr>
        <p:spPr>
          <a:xfrm>
            <a:off x="6354720" y="4594320"/>
            <a:ext cx="1713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MARTPenAnnotation83"/>
          <p:cNvSpPr/>
          <p:nvPr/>
        </p:nvSpPr>
        <p:spPr>
          <a:xfrm>
            <a:off x="6572160" y="4446720"/>
            <a:ext cx="3492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MARTPenAnnotation84"/>
          <p:cNvSpPr/>
          <p:nvPr/>
        </p:nvSpPr>
        <p:spPr>
          <a:xfrm>
            <a:off x="6504120" y="4525920"/>
            <a:ext cx="399960" cy="20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MARTPenAnnotation85"/>
          <p:cNvSpPr/>
          <p:nvPr/>
        </p:nvSpPr>
        <p:spPr>
          <a:xfrm>
            <a:off x="6915240" y="4440240"/>
            <a:ext cx="39996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MARTPenAnnotation86"/>
          <p:cNvSpPr/>
          <p:nvPr/>
        </p:nvSpPr>
        <p:spPr>
          <a:xfrm>
            <a:off x="7383600" y="4286160"/>
            <a:ext cx="633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MARTPenAnnotation87"/>
          <p:cNvSpPr/>
          <p:nvPr/>
        </p:nvSpPr>
        <p:spPr>
          <a:xfrm>
            <a:off x="7350120" y="4275000"/>
            <a:ext cx="31896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SMARTPenAnnotation88"/>
          <p:cNvSpPr/>
          <p:nvPr/>
        </p:nvSpPr>
        <p:spPr>
          <a:xfrm>
            <a:off x="7601040" y="4332240"/>
            <a:ext cx="14904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MARTPenAnnotation89"/>
          <p:cNvSpPr/>
          <p:nvPr/>
        </p:nvSpPr>
        <p:spPr>
          <a:xfrm>
            <a:off x="7601040" y="4354560"/>
            <a:ext cx="2174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MARTPenAnnotation90"/>
          <p:cNvSpPr/>
          <p:nvPr/>
        </p:nvSpPr>
        <p:spPr>
          <a:xfrm>
            <a:off x="7851600" y="4137120"/>
            <a:ext cx="412920" cy="269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MARTPenAnnotation91"/>
          <p:cNvSpPr/>
          <p:nvPr/>
        </p:nvSpPr>
        <p:spPr>
          <a:xfrm>
            <a:off x="5794200" y="4297320"/>
            <a:ext cx="721080" cy="32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SMARTPenAnnotation92"/>
          <p:cNvSpPr/>
          <p:nvPr/>
        </p:nvSpPr>
        <p:spPr>
          <a:xfrm>
            <a:off x="5600880" y="4378320"/>
            <a:ext cx="172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MARTPenAnnotation93"/>
          <p:cNvSpPr/>
          <p:nvPr/>
        </p:nvSpPr>
        <p:spPr>
          <a:xfrm>
            <a:off x="6035760" y="4062240"/>
            <a:ext cx="222120" cy="18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MARTPenAnnotation94"/>
          <p:cNvSpPr/>
          <p:nvPr/>
        </p:nvSpPr>
        <p:spPr>
          <a:xfrm>
            <a:off x="6286680" y="3567240"/>
            <a:ext cx="331560" cy="236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MARTPenAnnotation95"/>
          <p:cNvSpPr/>
          <p:nvPr/>
        </p:nvSpPr>
        <p:spPr>
          <a:xfrm>
            <a:off x="6664320" y="3451320"/>
            <a:ext cx="19368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MARTPenAnnotation96"/>
          <p:cNvSpPr/>
          <p:nvPr/>
        </p:nvSpPr>
        <p:spPr>
          <a:xfrm>
            <a:off x="6708600" y="3532320"/>
            <a:ext cx="17172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SMARTPenAnnotation97"/>
          <p:cNvSpPr/>
          <p:nvPr/>
        </p:nvSpPr>
        <p:spPr>
          <a:xfrm>
            <a:off x="6937200" y="3086280"/>
            <a:ext cx="12708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MARTPenAnnotation98"/>
          <p:cNvSpPr/>
          <p:nvPr/>
        </p:nvSpPr>
        <p:spPr>
          <a:xfrm>
            <a:off x="6937200" y="3314880"/>
            <a:ext cx="298800" cy="11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MARTPenAnnotation99"/>
          <p:cNvSpPr/>
          <p:nvPr/>
        </p:nvSpPr>
        <p:spPr>
          <a:xfrm>
            <a:off x="7086600" y="3417840"/>
            <a:ext cx="320760" cy="22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SMARTPenAnnotation100"/>
          <p:cNvSpPr/>
          <p:nvPr/>
        </p:nvSpPr>
        <p:spPr>
          <a:xfrm>
            <a:off x="6208560" y="5361120"/>
            <a:ext cx="26064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SMARTPenAnnotation101"/>
          <p:cNvSpPr/>
          <p:nvPr/>
        </p:nvSpPr>
        <p:spPr>
          <a:xfrm>
            <a:off x="6080040" y="5622840"/>
            <a:ext cx="2984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MARTPenAnnotation102"/>
          <p:cNvSpPr/>
          <p:nvPr/>
        </p:nvSpPr>
        <p:spPr>
          <a:xfrm>
            <a:off x="6378480" y="562284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MARTPenAnnotation103"/>
          <p:cNvSpPr/>
          <p:nvPr/>
        </p:nvSpPr>
        <p:spPr>
          <a:xfrm>
            <a:off x="6423120" y="5418000"/>
            <a:ext cx="13788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MARTPenAnnotation104"/>
          <p:cNvSpPr/>
          <p:nvPr/>
        </p:nvSpPr>
        <p:spPr>
          <a:xfrm>
            <a:off x="6526080" y="5851440"/>
            <a:ext cx="3240" cy="360"/>
          </a:xfrm>
          <a:prstGeom prst="pie">
            <a:avLst/>
          </a:prstGeom>
          <a:solidFill>
            <a:srgbClr val="0066ff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SMARTPenAnnotation105"/>
          <p:cNvSpPr/>
          <p:nvPr/>
        </p:nvSpPr>
        <p:spPr>
          <a:xfrm>
            <a:off x="6539040" y="5646600"/>
            <a:ext cx="158760" cy="12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MARTPenAnnotation106"/>
          <p:cNvSpPr/>
          <p:nvPr/>
        </p:nvSpPr>
        <p:spPr>
          <a:xfrm>
            <a:off x="6561000" y="5565600"/>
            <a:ext cx="12564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MARTPenAnnotation107"/>
          <p:cNvSpPr/>
          <p:nvPr/>
        </p:nvSpPr>
        <p:spPr>
          <a:xfrm>
            <a:off x="6721560" y="5440320"/>
            <a:ext cx="125280" cy="55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MARTPenAnnotation108"/>
          <p:cNvSpPr/>
          <p:nvPr/>
        </p:nvSpPr>
        <p:spPr>
          <a:xfrm>
            <a:off x="6915240" y="5591160"/>
            <a:ext cx="20628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MARTPenAnnotation109"/>
          <p:cNvSpPr/>
          <p:nvPr/>
        </p:nvSpPr>
        <p:spPr>
          <a:xfrm>
            <a:off x="6954840" y="5622840"/>
            <a:ext cx="16668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SMARTPenAnnotation110"/>
          <p:cNvSpPr/>
          <p:nvPr/>
        </p:nvSpPr>
        <p:spPr>
          <a:xfrm>
            <a:off x="7304040" y="5407200"/>
            <a:ext cx="2232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MARTPenAnnotation111"/>
          <p:cNvSpPr/>
          <p:nvPr/>
        </p:nvSpPr>
        <p:spPr>
          <a:xfrm>
            <a:off x="7165800" y="5646600"/>
            <a:ext cx="22860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SMARTPenAnnotation112"/>
          <p:cNvSpPr/>
          <p:nvPr/>
        </p:nvSpPr>
        <p:spPr>
          <a:xfrm>
            <a:off x="7246800" y="5772240"/>
            <a:ext cx="2178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MARTPenAnnotation113"/>
          <p:cNvSpPr/>
          <p:nvPr/>
        </p:nvSpPr>
        <p:spPr>
          <a:xfrm>
            <a:off x="7475400" y="5600880"/>
            <a:ext cx="19368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MARTPenAnnotation114"/>
          <p:cNvSpPr/>
          <p:nvPr/>
        </p:nvSpPr>
        <p:spPr>
          <a:xfrm>
            <a:off x="7521480" y="5565600"/>
            <a:ext cx="101520" cy="25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SMARTPenAnnotation115"/>
          <p:cNvSpPr/>
          <p:nvPr/>
        </p:nvSpPr>
        <p:spPr>
          <a:xfrm>
            <a:off x="7704000" y="5565600"/>
            <a:ext cx="25092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SMARTPenAnnotation116"/>
          <p:cNvSpPr/>
          <p:nvPr/>
        </p:nvSpPr>
        <p:spPr>
          <a:xfrm>
            <a:off x="7783560" y="5475240"/>
            <a:ext cx="349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SMARTPenAnnotation117"/>
          <p:cNvSpPr/>
          <p:nvPr/>
        </p:nvSpPr>
        <p:spPr>
          <a:xfrm>
            <a:off x="7989840" y="5361120"/>
            <a:ext cx="1936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MARTPenAnnotation0"/>
          <p:cNvSpPr/>
          <p:nvPr/>
        </p:nvSpPr>
        <p:spPr>
          <a:xfrm>
            <a:off x="1889280" y="743040"/>
            <a:ext cx="26028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MARTPenAnnotation1"/>
          <p:cNvSpPr/>
          <p:nvPr/>
        </p:nvSpPr>
        <p:spPr>
          <a:xfrm>
            <a:off x="2036880" y="971640"/>
            <a:ext cx="3524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MARTPenAnnotation2"/>
          <p:cNvSpPr/>
          <p:nvPr/>
        </p:nvSpPr>
        <p:spPr>
          <a:xfrm>
            <a:off x="2446200" y="1222200"/>
            <a:ext cx="1116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MARTPenAnnotation3"/>
          <p:cNvSpPr/>
          <p:nvPr/>
        </p:nvSpPr>
        <p:spPr>
          <a:xfrm>
            <a:off x="2651040" y="960480"/>
            <a:ext cx="3492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SMARTPenAnnotation4"/>
          <p:cNvSpPr/>
          <p:nvPr/>
        </p:nvSpPr>
        <p:spPr>
          <a:xfrm>
            <a:off x="2754360" y="822240"/>
            <a:ext cx="21600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MARTPenAnnotation5"/>
          <p:cNvSpPr/>
          <p:nvPr/>
        </p:nvSpPr>
        <p:spPr>
          <a:xfrm>
            <a:off x="2971800" y="1211400"/>
            <a:ext cx="112680" cy="23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MARTPenAnnotation6"/>
          <p:cNvSpPr/>
          <p:nvPr/>
        </p:nvSpPr>
        <p:spPr>
          <a:xfrm>
            <a:off x="3336840" y="800280"/>
            <a:ext cx="228600" cy="606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SMARTPenAnnotation7"/>
          <p:cNvSpPr/>
          <p:nvPr/>
        </p:nvSpPr>
        <p:spPr>
          <a:xfrm>
            <a:off x="3556080" y="925560"/>
            <a:ext cx="2268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MARTPenAnnotation8"/>
          <p:cNvSpPr/>
          <p:nvPr/>
        </p:nvSpPr>
        <p:spPr>
          <a:xfrm>
            <a:off x="3705120" y="903240"/>
            <a:ext cx="4464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MARTPenAnnotation9"/>
          <p:cNvSpPr/>
          <p:nvPr/>
        </p:nvSpPr>
        <p:spPr>
          <a:xfrm>
            <a:off x="3817800" y="1292400"/>
            <a:ext cx="460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MARTPenAnnotation10"/>
          <p:cNvSpPr/>
          <p:nvPr/>
        </p:nvSpPr>
        <p:spPr>
          <a:xfrm>
            <a:off x="4046400" y="868320"/>
            <a:ext cx="30636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SMARTPenAnnotation11"/>
          <p:cNvSpPr/>
          <p:nvPr/>
        </p:nvSpPr>
        <p:spPr>
          <a:xfrm>
            <a:off x="4251240" y="720720"/>
            <a:ext cx="37152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SMARTPenAnnotation12"/>
          <p:cNvSpPr/>
          <p:nvPr/>
        </p:nvSpPr>
        <p:spPr>
          <a:xfrm>
            <a:off x="2046240" y="2000160"/>
            <a:ext cx="52560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SMARTPenAnnotation13"/>
          <p:cNvSpPr/>
          <p:nvPr/>
        </p:nvSpPr>
        <p:spPr>
          <a:xfrm>
            <a:off x="2685960" y="2068560"/>
            <a:ext cx="19368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MARTPenAnnotation14"/>
          <p:cNvSpPr/>
          <p:nvPr/>
        </p:nvSpPr>
        <p:spPr>
          <a:xfrm>
            <a:off x="2708280" y="2182680"/>
            <a:ext cx="1713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MARTPenAnnotation15"/>
          <p:cNvSpPr/>
          <p:nvPr/>
        </p:nvSpPr>
        <p:spPr>
          <a:xfrm>
            <a:off x="3051000" y="1771560"/>
            <a:ext cx="29880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SMARTPenAnnotation16"/>
          <p:cNvSpPr/>
          <p:nvPr/>
        </p:nvSpPr>
        <p:spPr>
          <a:xfrm>
            <a:off x="3279600" y="1679400"/>
            <a:ext cx="1296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SMARTPenAnnotation17"/>
          <p:cNvSpPr/>
          <p:nvPr/>
        </p:nvSpPr>
        <p:spPr>
          <a:xfrm>
            <a:off x="2994120" y="2139840"/>
            <a:ext cx="549360" cy="111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MARTPenAnnotation18"/>
          <p:cNvSpPr/>
          <p:nvPr/>
        </p:nvSpPr>
        <p:spPr>
          <a:xfrm>
            <a:off x="3052800" y="2343240"/>
            <a:ext cx="61596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MARTPenAnnotation19"/>
          <p:cNvSpPr/>
          <p:nvPr/>
        </p:nvSpPr>
        <p:spPr>
          <a:xfrm>
            <a:off x="3817800" y="2046240"/>
            <a:ext cx="22860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MARTPenAnnotation20"/>
          <p:cNvSpPr/>
          <p:nvPr/>
        </p:nvSpPr>
        <p:spPr>
          <a:xfrm>
            <a:off x="3851280" y="2103480"/>
            <a:ext cx="263520" cy="9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MARTPenAnnotation21"/>
          <p:cNvSpPr/>
          <p:nvPr/>
        </p:nvSpPr>
        <p:spPr>
          <a:xfrm>
            <a:off x="4229280" y="1819440"/>
            <a:ext cx="421920" cy="41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MARTPenAnnotation22"/>
          <p:cNvSpPr/>
          <p:nvPr/>
        </p:nvSpPr>
        <p:spPr>
          <a:xfrm>
            <a:off x="1771560" y="2930400"/>
            <a:ext cx="365040" cy="78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MARTPenAnnotation23"/>
          <p:cNvSpPr/>
          <p:nvPr/>
        </p:nvSpPr>
        <p:spPr>
          <a:xfrm>
            <a:off x="2251080" y="3108240"/>
            <a:ext cx="3427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SMARTPenAnnotation24"/>
          <p:cNvSpPr/>
          <p:nvPr/>
        </p:nvSpPr>
        <p:spPr>
          <a:xfrm>
            <a:off x="2617920" y="2938320"/>
            <a:ext cx="442800" cy="74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MARTPenAnnotation25"/>
          <p:cNvSpPr/>
          <p:nvPr/>
        </p:nvSpPr>
        <p:spPr>
          <a:xfrm>
            <a:off x="3079800" y="3165480"/>
            <a:ext cx="9828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MARTPenAnnotation26"/>
          <p:cNvSpPr/>
          <p:nvPr/>
        </p:nvSpPr>
        <p:spPr>
          <a:xfrm>
            <a:off x="3086280" y="3189240"/>
            <a:ext cx="680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MARTPenAnnotation27"/>
          <p:cNvSpPr/>
          <p:nvPr/>
        </p:nvSpPr>
        <p:spPr>
          <a:xfrm>
            <a:off x="3097080" y="3165480"/>
            <a:ext cx="921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MARTPenAnnotation28"/>
          <p:cNvSpPr/>
          <p:nvPr/>
        </p:nvSpPr>
        <p:spPr>
          <a:xfrm>
            <a:off x="3440160" y="3086280"/>
            <a:ext cx="30960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SMARTPenAnnotation29"/>
          <p:cNvSpPr/>
          <p:nvPr/>
        </p:nvSpPr>
        <p:spPr>
          <a:xfrm>
            <a:off x="3463920" y="3178080"/>
            <a:ext cx="3301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SMARTPenAnnotation30"/>
          <p:cNvSpPr/>
          <p:nvPr/>
        </p:nvSpPr>
        <p:spPr>
          <a:xfrm>
            <a:off x="3990960" y="3040200"/>
            <a:ext cx="398520" cy="276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MARTPenAnnotation31"/>
          <p:cNvSpPr/>
          <p:nvPr/>
        </p:nvSpPr>
        <p:spPr>
          <a:xfrm>
            <a:off x="4483080" y="2835360"/>
            <a:ext cx="271440" cy="625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MARTPenAnnotation32"/>
          <p:cNvSpPr/>
          <p:nvPr/>
        </p:nvSpPr>
        <p:spPr>
          <a:xfrm>
            <a:off x="4754520" y="3017880"/>
            <a:ext cx="3319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SMARTPenAnnotation33"/>
          <p:cNvSpPr/>
          <p:nvPr/>
        </p:nvSpPr>
        <p:spPr>
          <a:xfrm>
            <a:off x="4675320" y="3029040"/>
            <a:ext cx="3078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SMARTPenAnnotation34"/>
          <p:cNvSpPr/>
          <p:nvPr/>
        </p:nvSpPr>
        <p:spPr>
          <a:xfrm>
            <a:off x="5097600" y="3154320"/>
            <a:ext cx="309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SMARTPenAnnotation35"/>
          <p:cNvSpPr/>
          <p:nvPr/>
        </p:nvSpPr>
        <p:spPr>
          <a:xfrm>
            <a:off x="5532480" y="3006720"/>
            <a:ext cx="3078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SMARTPenAnnotation36"/>
          <p:cNvSpPr/>
          <p:nvPr/>
        </p:nvSpPr>
        <p:spPr>
          <a:xfrm>
            <a:off x="5475240" y="3006720"/>
            <a:ext cx="3189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MARTPenAnnotation37"/>
          <p:cNvSpPr/>
          <p:nvPr/>
        </p:nvSpPr>
        <p:spPr>
          <a:xfrm>
            <a:off x="5854680" y="3200400"/>
            <a:ext cx="100080" cy="13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MARTPenAnnotation38"/>
          <p:cNvSpPr/>
          <p:nvPr/>
        </p:nvSpPr>
        <p:spPr>
          <a:xfrm>
            <a:off x="5783400" y="2778120"/>
            <a:ext cx="39672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SMARTPenAnnotation39"/>
          <p:cNvSpPr/>
          <p:nvPr/>
        </p:nvSpPr>
        <p:spPr>
          <a:xfrm>
            <a:off x="1716120" y="3897360"/>
            <a:ext cx="36360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SMARTPenAnnotation40"/>
          <p:cNvSpPr/>
          <p:nvPr/>
        </p:nvSpPr>
        <p:spPr>
          <a:xfrm>
            <a:off x="2171880" y="4068720"/>
            <a:ext cx="3315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SMARTPenAnnotation41"/>
          <p:cNvSpPr/>
          <p:nvPr/>
        </p:nvSpPr>
        <p:spPr>
          <a:xfrm>
            <a:off x="2617920" y="3828960"/>
            <a:ext cx="2196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MARTPenAnnotation42"/>
          <p:cNvSpPr/>
          <p:nvPr/>
        </p:nvSpPr>
        <p:spPr>
          <a:xfrm>
            <a:off x="2822400" y="3978360"/>
            <a:ext cx="24156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MARTPenAnnotation43"/>
          <p:cNvSpPr/>
          <p:nvPr/>
        </p:nvSpPr>
        <p:spPr>
          <a:xfrm>
            <a:off x="2846520" y="4079880"/>
            <a:ext cx="2746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MARTPenAnnotation44"/>
          <p:cNvSpPr/>
          <p:nvPr/>
        </p:nvSpPr>
        <p:spPr>
          <a:xfrm>
            <a:off x="3211560" y="3841920"/>
            <a:ext cx="37764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SMARTPenAnnotation45"/>
          <p:cNvSpPr/>
          <p:nvPr/>
        </p:nvSpPr>
        <p:spPr>
          <a:xfrm>
            <a:off x="3714840" y="3708360"/>
            <a:ext cx="239760" cy="61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SMARTPenAnnotation46"/>
          <p:cNvSpPr/>
          <p:nvPr/>
        </p:nvSpPr>
        <p:spPr>
          <a:xfrm>
            <a:off x="3965400" y="3954600"/>
            <a:ext cx="33192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MARTPenAnnotation47"/>
          <p:cNvSpPr/>
          <p:nvPr/>
        </p:nvSpPr>
        <p:spPr>
          <a:xfrm>
            <a:off x="3932280" y="4000680"/>
            <a:ext cx="31896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MARTPenAnnotation48"/>
          <p:cNvSpPr/>
          <p:nvPr/>
        </p:nvSpPr>
        <p:spPr>
          <a:xfrm>
            <a:off x="4286160" y="4079880"/>
            <a:ext cx="2174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SMARTPenAnnotation49"/>
          <p:cNvSpPr/>
          <p:nvPr/>
        </p:nvSpPr>
        <p:spPr>
          <a:xfrm>
            <a:off x="4618080" y="3909960"/>
            <a:ext cx="307800" cy="27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MARTPenAnnotation50"/>
          <p:cNvSpPr/>
          <p:nvPr/>
        </p:nvSpPr>
        <p:spPr>
          <a:xfrm>
            <a:off x="4937040" y="3807000"/>
            <a:ext cx="1936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MARTPenAnnotation51"/>
          <p:cNvSpPr/>
          <p:nvPr/>
        </p:nvSpPr>
        <p:spPr>
          <a:xfrm>
            <a:off x="2057400" y="1393920"/>
            <a:ext cx="33192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MARTPenAnnotation52"/>
          <p:cNvSpPr/>
          <p:nvPr/>
        </p:nvSpPr>
        <p:spPr>
          <a:xfrm>
            <a:off x="2629080" y="1325520"/>
            <a:ext cx="1933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MARTPenAnnotation53"/>
          <p:cNvSpPr/>
          <p:nvPr/>
        </p:nvSpPr>
        <p:spPr>
          <a:xfrm>
            <a:off x="1760400" y="4640400"/>
            <a:ext cx="331920" cy="60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SMARTPenAnnotation54"/>
          <p:cNvSpPr/>
          <p:nvPr/>
        </p:nvSpPr>
        <p:spPr>
          <a:xfrm>
            <a:off x="2286000" y="4835520"/>
            <a:ext cx="182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MARTPenAnnotation55"/>
          <p:cNvSpPr/>
          <p:nvPr/>
        </p:nvSpPr>
        <p:spPr>
          <a:xfrm>
            <a:off x="2639880" y="4562640"/>
            <a:ext cx="68400" cy="466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MARTPenAnnotation56"/>
          <p:cNvSpPr/>
          <p:nvPr/>
        </p:nvSpPr>
        <p:spPr>
          <a:xfrm>
            <a:off x="2811600" y="4732200"/>
            <a:ext cx="2635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SMARTPenAnnotation57"/>
          <p:cNvSpPr/>
          <p:nvPr/>
        </p:nvSpPr>
        <p:spPr>
          <a:xfrm>
            <a:off x="2879640" y="4869000"/>
            <a:ext cx="2174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MARTPenAnnotation58"/>
          <p:cNvSpPr/>
          <p:nvPr/>
        </p:nvSpPr>
        <p:spPr>
          <a:xfrm>
            <a:off x="3211560" y="4572000"/>
            <a:ext cx="4921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MARTPenAnnotation59"/>
          <p:cNvSpPr/>
          <p:nvPr/>
        </p:nvSpPr>
        <p:spPr>
          <a:xfrm>
            <a:off x="3703680" y="4618080"/>
            <a:ext cx="37620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SMARTPenAnnotation60"/>
          <p:cNvSpPr/>
          <p:nvPr/>
        </p:nvSpPr>
        <p:spPr>
          <a:xfrm>
            <a:off x="3749760" y="4629240"/>
            <a:ext cx="2858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SMARTPenAnnotation61"/>
          <p:cNvSpPr/>
          <p:nvPr/>
        </p:nvSpPr>
        <p:spPr>
          <a:xfrm>
            <a:off x="4092480" y="4765680"/>
            <a:ext cx="2160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MARTPenAnnotation62"/>
          <p:cNvSpPr/>
          <p:nvPr/>
        </p:nvSpPr>
        <p:spPr>
          <a:xfrm>
            <a:off x="4343400" y="4514760"/>
            <a:ext cx="22860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MARTPenAnnotation63"/>
          <p:cNvSpPr/>
          <p:nvPr/>
        </p:nvSpPr>
        <p:spPr>
          <a:xfrm>
            <a:off x="4519440" y="4525920"/>
            <a:ext cx="4140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SMARTPenAnnotation64"/>
          <p:cNvSpPr/>
          <p:nvPr/>
        </p:nvSpPr>
        <p:spPr>
          <a:xfrm>
            <a:off x="2274840" y="5211720"/>
            <a:ext cx="2746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SMARTPenAnnotation65"/>
          <p:cNvSpPr/>
          <p:nvPr/>
        </p:nvSpPr>
        <p:spPr>
          <a:xfrm>
            <a:off x="2446200" y="5097600"/>
            <a:ext cx="46080" cy="366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MARTPenAnnotation66"/>
          <p:cNvSpPr/>
          <p:nvPr/>
        </p:nvSpPr>
        <p:spPr>
          <a:xfrm>
            <a:off x="2765520" y="5154480"/>
            <a:ext cx="302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SMARTPenAnnotation67"/>
          <p:cNvSpPr/>
          <p:nvPr/>
        </p:nvSpPr>
        <p:spPr>
          <a:xfrm>
            <a:off x="4057560" y="5154480"/>
            <a:ext cx="37800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MARTPenAnnotation68"/>
          <p:cNvSpPr/>
          <p:nvPr/>
        </p:nvSpPr>
        <p:spPr>
          <a:xfrm>
            <a:off x="4286160" y="5029200"/>
            <a:ext cx="79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MARTPenAnnotation69"/>
          <p:cNvSpPr/>
          <p:nvPr/>
        </p:nvSpPr>
        <p:spPr>
          <a:xfrm>
            <a:off x="4572000" y="5006880"/>
            <a:ext cx="3492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SMARTPenAnnotation70"/>
          <p:cNvSpPr/>
          <p:nvPr/>
        </p:nvSpPr>
        <p:spPr>
          <a:xfrm>
            <a:off x="1851120" y="5657760"/>
            <a:ext cx="39996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MARTPenAnnotation71"/>
          <p:cNvSpPr/>
          <p:nvPr/>
        </p:nvSpPr>
        <p:spPr>
          <a:xfrm>
            <a:off x="2354400" y="584208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SMARTPenAnnotation72"/>
          <p:cNvSpPr/>
          <p:nvPr/>
        </p:nvSpPr>
        <p:spPr>
          <a:xfrm>
            <a:off x="2354400" y="5932440"/>
            <a:ext cx="21744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SMARTPenAnnotation73"/>
          <p:cNvSpPr/>
          <p:nvPr/>
        </p:nvSpPr>
        <p:spPr>
          <a:xfrm>
            <a:off x="2664000" y="5611680"/>
            <a:ext cx="27288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MARTPenAnnotation74"/>
          <p:cNvSpPr/>
          <p:nvPr/>
        </p:nvSpPr>
        <p:spPr>
          <a:xfrm>
            <a:off x="3040200" y="5715000"/>
            <a:ext cx="2854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SMARTPenAnnotation75"/>
          <p:cNvSpPr/>
          <p:nvPr/>
        </p:nvSpPr>
        <p:spPr>
          <a:xfrm>
            <a:off x="3022560" y="5783400"/>
            <a:ext cx="2239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MARTPenAnnotation76"/>
          <p:cNvSpPr/>
          <p:nvPr/>
        </p:nvSpPr>
        <p:spPr>
          <a:xfrm>
            <a:off x="3382920" y="5943600"/>
            <a:ext cx="1825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SMARTPenAnnotation77"/>
          <p:cNvSpPr/>
          <p:nvPr/>
        </p:nvSpPr>
        <p:spPr>
          <a:xfrm>
            <a:off x="3635280" y="5726160"/>
            <a:ext cx="2970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82-8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-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8:51:38Z</dcterms:created>
  <dc:creator>nuhs</dc:creator>
  <dc:description/>
  <dc:language>en-US</dc:language>
  <cp:lastModifiedBy>Ameena</cp:lastModifiedBy>
  <dcterms:modified xsi:type="dcterms:W3CDTF">2008-09-18T19:40:48Z</dcterms:modified>
  <cp:revision>6</cp:revision>
  <dc:subject/>
  <dc:title>Slide 1</dc:title>
</cp:coreProperties>
</file>